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A3E-EB1C-4DC7-86B6-D11050A0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9AB-9B1D-4910-B5EC-25FA87C6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2FC-9935-4391-AFCA-3C4246D4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68A-0142-4473-9CA2-CCD8F273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6E2-9E49-4D24-BE1B-65E8FA20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FDA-F41E-4BA3-BD42-2481186F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AC7-244D-4865-9C52-6E547620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AC3-4930-4B36-9DF8-FEBD3929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FC5-4D2E-4C36-9F17-F7B851FB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F47-0C9C-479C-B582-A4A91D0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61F-812F-4E50-A9AA-23297BB5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624-3D7A-4E09-A65E-68E442A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8E04-1042-4BCA-BBED-EADD22915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this tex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you draw the pictures in the boxes to help make this material more meaningful to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any miss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extbook to help you (AGS Physical Science pages 113-1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glossary of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graphic organiz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particles of the _____________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brate at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_____________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ngle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o the direction that the energy trav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is where the name transverse comes from - it means ' _____________ '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 of the electromagnetic waves are transverse waves, so are water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191120"/>
            <a:ext cx="845820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waves are longitudinal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energy of a longitudinal wave travels in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_____________ direc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s the particles vib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590920"/>
            <a:ext cx="8458200" cy="3962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re longitudinal and transverse waves the same and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3160" y="2743560"/>
            <a:ext cx="5334480" cy="3733920"/>
            <a:chOff x="533160" y="2743560"/>
            <a:chExt cx="5334480" cy="3733920"/>
          </a:xfrm>
        </p:grpSpPr>
        <p:sp>
          <p:nvSpPr>
            <p:cNvPr id="74" name=""/>
            <p:cNvSpPr/>
            <p:nvPr/>
          </p:nvSpPr>
          <p:spPr>
            <a:xfrm>
              <a:off x="533160" y="2743560"/>
              <a:ext cx="5334480" cy="373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124080" y="2743200"/>
            <a:ext cx="541044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057400"/>
            <a:ext cx="3048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2057400"/>
            <a:ext cx="3048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3276720"/>
            <a:ext cx="83822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amplitude &amp; wave speed 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symbol for amplitude is _________ .  Amplitude is the distance from the center line (or the still position) to the top of a crest or to the bottom of a trough. Amplitude is measured in ___________ (m).  The greater the amplitude of a wave the more energy it is carryin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581280"/>
            <a:ext cx="8305920" cy="289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symbol for wavelength is a Greek letter ___________.  It is the distance from any point on one wave to the same point on the next wave along.  Wavelength is also measured in ______________  (m) - it is a 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after all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657600"/>
            <a:ext cx="84582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symbol for frequency is ________________.  It is the number of waves passing a point in a certain time. We normally use a time of one second, so this gives frequency the unit __________ (Hz), since one hertz is equal to one wave per seco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200400"/>
            <a:ext cx="838224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 note on Her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 water waves and sound waves the unit hertz is usually good enough but radio and TV waves have such a high frequency that the kilohertz (kHz) or even the megahertz (MHz) are better units.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581280"/>
            <a:ext cx="8229600" cy="289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S Physical Sci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bc.co.uk/scotland/education/bitesize/standard/physics/waves/wave_definitions_rev1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962520"/>
            <a:ext cx="7620120" cy="785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ustrated b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peed (also called velocit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symbol for speed is _____________.  It is a measure of how far the wave travels in a certain time.  Wave speed is measured in meters per _____________ (m/s). All the electromagnetic waves travel at 300,000,000 meters per second (3 x 108 m/s). Sound travels at about 340 meters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9880"/>
            <a:ext cx="82296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ts of the wav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2819520"/>
            <a:ext cx="2438640" cy="220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438280"/>
            <a:ext cx="609480" cy="685800"/>
          </a:xfrm>
          <a:prstGeom prst="up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3581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48006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5812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505320"/>
            <a:ext cx="1828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ave relationship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ave spee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en distance is measured in meters (m) and time in seconds (s), the speed is in meters per second (m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wave speed equation"/>
          <p:cNvPicPr/>
          <p:nvPr/>
        </p:nvPicPr>
        <p:blipFill>
          <a:blip r:embed="rId2"/>
          <a:stretch/>
        </p:blipFill>
        <p:spPr>
          <a:xfrm>
            <a:off x="685800" y="2895480"/>
            <a:ext cx="81532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ss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295280"/>
          <a:ext cx="8305560" cy="540360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w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verse w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u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itu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t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dra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graphic orga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86200" y="4419720"/>
            <a:ext cx="23623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peed of sou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876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he speed of sound is different for different materi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travel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astes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hrough solids and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lowes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hrough gases such as a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ask – “What does it matter”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27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38280" y="3476520"/>
            <a:ext cx="4419720" cy="3381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s are carried b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itudinal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wa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articles of the medium vibrate in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me direc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s the energy of the sound is carried.  (bottom diagr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4495680"/>
            <a:ext cx="1752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lab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quish in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4960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umans can hear sounds in the range 20 hertz to 20 000 hert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ferred to as th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ange of hear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everyone can hear over all of this range - the numbers are only approximate. In particular the high frequency limit reduces with 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805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800"/>
            </a:b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3059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What is a wave?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oudnes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the wave. The greater the amplitude, the louder the s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itch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the wave. The higher the frequency, the higher the pit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k:  Straw sounds lab &amp; test tube xyl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 and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udnes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the w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greater the amplitude, the louder the s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itch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the w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higher the frequency, the higher the pit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Unwanted background sounds are sometimes called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hen the sound level of this noise rises to higher levels, we refer to this as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 pollution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levels are measured on a scale known as the decibel (dB) sc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higher the number the greater is the sound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oo much noise can damage hea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posure to 90 decibel sound levels for a long time can cause permanent hearing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posure to a brief sound level of 140 decibels will cause pain and can cause permanent damage to hea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ources of sounds and their db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447920"/>
          <a:ext cx="7924680" cy="5027400"/>
        </p:xfrm>
        <a:graphic>
          <a:graphicData uri="http://schemas.openxmlformats.org/drawingml/2006/table">
            <a:tbl>
              <a:tblPr/>
              <a:tblGrid>
                <a:gridCol w="586728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urce of s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und level in decib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reshold of S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ckground noise at h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rmal tal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ise pollution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neumatic drill - 5 metres a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 a club - 1 m from a loudspe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reshold of p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ltra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und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vibrations beyond the range of human hea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of ultrasounds is greater than 20,000 hert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by means of longitudinal w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medicine to break up kidney stones and gall stones. It is also used to create images of an unborn baby in a wom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picture of a wav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47920"/>
            <a:ext cx="815364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Waves are 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vibrations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moving from one place to another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981080"/>
            <a:ext cx="7848360" cy="441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ave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arry _______________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rom one place to another. Because waves carry energy, they can be used for communication (ex: radio and television waves) and to transmit sign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048120"/>
            <a:ext cx="7772400" cy="350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ny type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waves.  Some examples of wave types are ___________, ____________ and _____________ w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2438280"/>
            <a:ext cx="8000280" cy="4037400"/>
            <a:chOff x="685800" y="2438280"/>
            <a:chExt cx="8000280" cy="4037400"/>
          </a:xfrm>
        </p:grpSpPr>
        <p:cxnSp>
          <p:nvCxnSpPr>
            <p:cNvPr id="55" name="_s36871"/>
            <p:cNvCxnSpPr>
              <a:stCxn id="56" idx="0"/>
              <a:endCxn id="57" idx="2"/>
            </p:cNvCxnSpPr>
            <p:nvPr/>
          </p:nvCxnSpPr>
          <p:spPr>
            <a:xfrm flipV="1" rot="16200000">
              <a:off x="5681880" y="3056040"/>
              <a:ext cx="808200" cy="2800800"/>
            </a:xfrm>
            <a:prstGeom prst="bentConnector3">
              <a:avLst>
                <a:gd name="adj1" fmla="val 207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36872"/>
            <p:cNvCxnSpPr>
              <a:stCxn id="59" idx="0"/>
              <a:endCxn id="57" idx="2"/>
            </p:cNvCxnSpPr>
            <p:nvPr/>
          </p:nvCxnSpPr>
          <p:spPr>
            <a:xfrm flipV="1">
              <a:off x="4686120" y="4052520"/>
              <a:ext cx="2880" cy="80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6873"/>
            <p:cNvCxnSpPr>
              <a:stCxn id="61" idx="0"/>
              <a:endCxn id="57" idx="2"/>
            </p:cNvCxnSpPr>
            <p:nvPr/>
          </p:nvCxnSpPr>
          <p:spPr>
            <a:xfrm flipH="1" flipV="1" rot="5400000">
              <a:off x="2882880" y="3057480"/>
              <a:ext cx="808200" cy="2798280"/>
            </a:xfrm>
            <a:prstGeom prst="bentConnector3">
              <a:avLst>
                <a:gd name="adj1" fmla="val 207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36874"/>
            <p:cNvSpPr/>
            <p:nvPr/>
          </p:nvSpPr>
          <p:spPr>
            <a:xfrm>
              <a:off x="3485880" y="2438280"/>
              <a:ext cx="2400120" cy="161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Types of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6875"/>
            <p:cNvSpPr/>
            <p:nvPr/>
          </p:nvSpPr>
          <p:spPr>
            <a:xfrm>
              <a:off x="685800" y="4860720"/>
              <a:ext cx="2400120" cy="161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6876"/>
            <p:cNvSpPr/>
            <p:nvPr/>
          </p:nvSpPr>
          <p:spPr>
            <a:xfrm>
              <a:off x="3485880" y="4860720"/>
              <a:ext cx="2400120" cy="161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6877"/>
            <p:cNvSpPr/>
            <p:nvPr/>
          </p:nvSpPr>
          <p:spPr>
            <a:xfrm>
              <a:off x="6285960" y="4860720"/>
              <a:ext cx="2400120" cy="161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 some types of waves,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edium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at carries them has to be matter, either solid, liquid or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209680"/>
            <a:ext cx="784872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waves in the electromagnetic spectrum do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need any matter to travel in, they are able to travel in a vacuum. Electromagnetic waves are also called ______________ wa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200400"/>
            <a:ext cx="815328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9:20:54Z</dcterms:created>
  <dc:creator>Staff</dc:creator>
  <dc:description/>
  <dc:language>en-US</dc:language>
  <cp:lastModifiedBy>SGANSK</cp:lastModifiedBy>
  <dcterms:modified xsi:type="dcterms:W3CDTF">2008-09-03T16:33:22Z</dcterms:modified>
  <cp:revision>9</cp:revision>
  <dc:subject/>
  <dc:title>Slide 1</dc:title>
</cp:coreProperties>
</file>